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98064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 Фармацеутска етика са историјом фармације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дриана Букоњ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itle 1"/>
          <p:cNvSpPr/>
          <p:nvPr/>
        </p:nvSpPr>
        <p:spPr>
          <a:xfrm>
            <a:off x="214200" y="35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ка у оглашавању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Rounded Rectangle 4"/>
          <p:cNvGrpSpPr/>
          <p:nvPr/>
        </p:nvGrpSpPr>
        <p:grpSpPr>
          <a:xfrm>
            <a:off x="2882880" y="1274760"/>
            <a:ext cx="2421000" cy="839880"/>
            <a:chOff x="2882880" y="1274760"/>
            <a:chExt cx="2421000" cy="839880"/>
          </a:xfrm>
        </p:grpSpPr>
        <p:pic>
          <p:nvPicPr>
            <p:cNvPr id="65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2882880" y="1274760"/>
              <a:ext cx="242100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982960" y="1343160"/>
              <a:ext cx="22334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Rounded Rectangle 10"/>
          <p:cNvGrpSpPr/>
          <p:nvPr/>
        </p:nvGrpSpPr>
        <p:grpSpPr>
          <a:xfrm>
            <a:off x="2736720" y="5553000"/>
            <a:ext cx="2683080" cy="811440"/>
            <a:chOff x="2736720" y="5553000"/>
            <a:chExt cx="2683080" cy="811440"/>
          </a:xfrm>
        </p:grpSpPr>
        <p:pic>
          <p:nvPicPr>
            <p:cNvPr id="6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2736720" y="5553000"/>
              <a:ext cx="26830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832120" y="5622840"/>
              <a:ext cx="24987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шт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Right Arrow 1"/>
          <p:cNvGrpSpPr/>
          <p:nvPr/>
        </p:nvGrpSpPr>
        <p:grpSpPr>
          <a:xfrm>
            <a:off x="3906720" y="2170080"/>
            <a:ext cx="360360" cy="3359160"/>
            <a:chOff x="3906720" y="2170080"/>
            <a:chExt cx="360360" cy="3359160"/>
          </a:xfrm>
        </p:grpSpPr>
        <p:pic>
          <p:nvPicPr>
            <p:cNvPr id="71" name="Right Arrow 1" descr=""/>
            <p:cNvPicPr/>
            <p:nvPr/>
          </p:nvPicPr>
          <p:blipFill>
            <a:blip r:embed="rId3"/>
            <a:stretch/>
          </p:blipFill>
          <p:spPr>
            <a:xfrm>
              <a:off x="3906720" y="2170080"/>
              <a:ext cx="36036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5400000">
              <a:off x="2501640" y="3735360"/>
              <a:ext cx="3179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3"/>
          <p:cNvSpPr/>
          <p:nvPr/>
        </p:nvSpPr>
        <p:spPr>
          <a:xfrm>
            <a:off x="2948040" y="2565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се издаје без лекарског реце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948040" y="37479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 средство намењено за употребу од стране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Callout 8"/>
          <p:cNvSpPr/>
          <p:nvPr/>
        </p:nvSpPr>
        <p:spPr>
          <a:xfrm>
            <a:off x="5508720" y="1417680"/>
            <a:ext cx="1800000" cy="1401840"/>
          </a:xfrm>
          <a:prstGeom prst="wedgeEllipseCallout">
            <a:avLst>
              <a:gd name="adj1" fmla="val -56180"/>
              <a:gd name="adj2" fmla="val 42458"/>
            </a:avLst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697360" y="1976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Callout 11"/>
          <p:cNvSpPr/>
          <p:nvPr/>
        </p:nvSpPr>
        <p:spPr>
          <a:xfrm>
            <a:off x="6005520" y="2873520"/>
            <a:ext cx="2016000" cy="1542960"/>
          </a:xfrm>
          <a:prstGeom prst="wedgeEllipseCallout">
            <a:avLst>
              <a:gd name="adj1" fmla="val -62851"/>
              <a:gd name="adj2" fmla="val 26777"/>
            </a:avLst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6230880" y="3111480"/>
            <a:ext cx="16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а рекламног садржаја пош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Callout 13"/>
          <p:cNvSpPr/>
          <p:nvPr/>
        </p:nvSpPr>
        <p:spPr>
          <a:xfrm>
            <a:off x="638280" y="1668600"/>
            <a:ext cx="2016000" cy="1542960"/>
          </a:xfrm>
          <a:prstGeom prst="wedgeEllipseCallout">
            <a:avLst>
              <a:gd name="adj1" fmla="val 61199"/>
              <a:gd name="adj2" fmla="val 28518"/>
            </a:avLst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725400" y="1949400"/>
            <a:ext cx="16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јавног информис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Callout 15"/>
          <p:cNvSpPr/>
          <p:nvPr/>
        </p:nvSpPr>
        <p:spPr>
          <a:xfrm>
            <a:off x="549360" y="3540240"/>
            <a:ext cx="2016000" cy="1544400"/>
          </a:xfrm>
          <a:prstGeom prst="wedgeEllipseCallout">
            <a:avLst>
              <a:gd name="adj1" fmla="val 69203"/>
              <a:gd name="adj2" fmla="val 5865"/>
            </a:avLst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662040" y="3803760"/>
            <a:ext cx="16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е на јавним мес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Callout 17"/>
          <p:cNvSpPr/>
          <p:nvPr/>
        </p:nvSpPr>
        <p:spPr>
          <a:xfrm>
            <a:off x="5618160" y="4457880"/>
            <a:ext cx="2016000" cy="1542960"/>
          </a:xfrm>
          <a:prstGeom prst="wedgeEllipseCallout">
            <a:avLst>
              <a:gd name="adj1" fmla="val -67518"/>
              <a:gd name="adj2" fmla="val -30731"/>
            </a:avLst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807160" y="504504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ounded Rectangle 4"/>
          <p:cNvGrpSpPr/>
          <p:nvPr/>
        </p:nvGrpSpPr>
        <p:grpSpPr>
          <a:xfrm>
            <a:off x="841320" y="1158840"/>
            <a:ext cx="2419560" cy="841320"/>
            <a:chOff x="841320" y="1158840"/>
            <a:chExt cx="2419560" cy="841320"/>
          </a:xfrm>
        </p:grpSpPr>
        <p:pic>
          <p:nvPicPr>
            <p:cNvPr id="86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841320" y="115884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34920" y="1231920"/>
              <a:ext cx="223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Rounded Rectangle 10"/>
          <p:cNvGrpSpPr/>
          <p:nvPr/>
        </p:nvGrpSpPr>
        <p:grpSpPr>
          <a:xfrm>
            <a:off x="5668920" y="1200240"/>
            <a:ext cx="2683080" cy="811080"/>
            <a:chOff x="5668920" y="1200240"/>
            <a:chExt cx="2683080" cy="811080"/>
          </a:xfrm>
        </p:grpSpPr>
        <p:pic>
          <p:nvPicPr>
            <p:cNvPr id="8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668920" y="1200240"/>
              <a:ext cx="2683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765760" y="1273320"/>
              <a:ext cx="2498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шт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Right Arrow 1"/>
          <p:cNvGrpSpPr/>
          <p:nvPr/>
        </p:nvGrpSpPr>
        <p:grpSpPr>
          <a:xfrm>
            <a:off x="3571920" y="1450800"/>
            <a:ext cx="1847880" cy="335160"/>
            <a:chOff x="3571920" y="1450800"/>
            <a:chExt cx="1847880" cy="335160"/>
          </a:xfrm>
        </p:grpSpPr>
        <p:pic>
          <p:nvPicPr>
            <p:cNvPr id="92" name="Right Arrow 1" descr=""/>
            <p:cNvPicPr/>
            <p:nvPr/>
          </p:nvPicPr>
          <p:blipFill>
            <a:blip r:embed="rId3"/>
            <a:stretch/>
          </p:blipFill>
          <p:spPr>
            <a:xfrm>
              <a:off x="3571920" y="1450800"/>
              <a:ext cx="18478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635280" y="1538280"/>
              <a:ext cx="16750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250920" y="2133720"/>
            <a:ext cx="86421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не смеју рекламира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издају уз рецеп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издају на терет средстава здравственог осигу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адрже опојне дроге и психоактивн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туберкул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болести које се преносе полним пу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инфектив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хронич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дијабетес и друге метаболичк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ounded Rectangle 4"/>
          <p:cNvGrpSpPr/>
          <p:nvPr/>
        </p:nvGrpSpPr>
        <p:grpSpPr>
          <a:xfrm>
            <a:off x="841320" y="1158840"/>
            <a:ext cx="2419560" cy="841320"/>
            <a:chOff x="841320" y="1158840"/>
            <a:chExt cx="2419560" cy="841320"/>
          </a:xfrm>
        </p:grpSpPr>
        <p:pic>
          <p:nvPicPr>
            <p:cNvPr id="96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841320" y="115884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934920" y="1231920"/>
              <a:ext cx="223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10"/>
          <p:cNvGrpSpPr/>
          <p:nvPr/>
        </p:nvGrpSpPr>
        <p:grpSpPr>
          <a:xfrm>
            <a:off x="5668920" y="1200240"/>
            <a:ext cx="2683080" cy="811080"/>
            <a:chOff x="5668920" y="1200240"/>
            <a:chExt cx="2683080" cy="811080"/>
          </a:xfrm>
        </p:grpSpPr>
        <p:pic>
          <p:nvPicPr>
            <p:cNvPr id="9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668920" y="1200240"/>
              <a:ext cx="2683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765760" y="1273320"/>
              <a:ext cx="2498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шт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ight Arrow 1"/>
          <p:cNvGrpSpPr/>
          <p:nvPr/>
        </p:nvGrpSpPr>
        <p:grpSpPr>
          <a:xfrm>
            <a:off x="3571920" y="1450800"/>
            <a:ext cx="1847880" cy="335160"/>
            <a:chOff x="3571920" y="1450800"/>
            <a:chExt cx="1847880" cy="335160"/>
          </a:xfrm>
        </p:grpSpPr>
        <p:pic>
          <p:nvPicPr>
            <p:cNvPr id="102" name="Right Arrow 1" descr=""/>
            <p:cNvPicPr/>
            <p:nvPr/>
          </p:nvPicPr>
          <p:blipFill>
            <a:blip r:embed="rId3"/>
            <a:stretch/>
          </p:blipFill>
          <p:spPr>
            <a:xfrm>
              <a:off x="3571920" y="1450800"/>
              <a:ext cx="18478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635280" y="1538280"/>
              <a:ext cx="16750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250920" y="2133720"/>
            <a:ext cx="86421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 о леку и медицинском средству мора бити јасна и не сме да доведе јавност у забу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 мора да садржи најмањ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лека, односно назива медицинског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примене и податке који су потребни за правилну употре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о, читко и разумно написано, нацртано или говорно упозорење пацијенту/кориснику да пажљиво прочита упутство за лек и упуство за примену медицинског средства, као да се о нежењеним реакцијама посаветује са лекаром или фармацеутом/ветерина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авилнику није дозвољено општу јавност наводити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ек нема нежељене реакције, да је нешкодљив и делотворан, да гарантује успех у лечењу, да је бољи од других лекова, да није потребно консултовати лекара... (члан 1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ounded Rectangle 4"/>
          <p:cNvGrpSpPr/>
          <p:nvPr/>
        </p:nvGrpSpPr>
        <p:grpSpPr>
          <a:xfrm>
            <a:off x="841320" y="1158840"/>
            <a:ext cx="2419560" cy="841320"/>
            <a:chOff x="841320" y="1158840"/>
            <a:chExt cx="2419560" cy="841320"/>
          </a:xfrm>
        </p:grpSpPr>
        <p:pic>
          <p:nvPicPr>
            <p:cNvPr id="106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841320" y="115884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934920" y="1231920"/>
              <a:ext cx="223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10"/>
          <p:cNvGrpSpPr/>
          <p:nvPr/>
        </p:nvGrpSpPr>
        <p:grpSpPr>
          <a:xfrm>
            <a:off x="5668920" y="1200240"/>
            <a:ext cx="2683080" cy="811080"/>
            <a:chOff x="5668920" y="1200240"/>
            <a:chExt cx="2683080" cy="811080"/>
          </a:xfrm>
        </p:grpSpPr>
        <p:pic>
          <p:nvPicPr>
            <p:cNvPr id="10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668920" y="1200240"/>
              <a:ext cx="2683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765760" y="1273320"/>
              <a:ext cx="2498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шт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ight Arrow 1"/>
          <p:cNvGrpSpPr/>
          <p:nvPr/>
        </p:nvGrpSpPr>
        <p:grpSpPr>
          <a:xfrm>
            <a:off x="3571920" y="1450800"/>
            <a:ext cx="1847880" cy="335160"/>
            <a:chOff x="3571920" y="1450800"/>
            <a:chExt cx="1847880" cy="335160"/>
          </a:xfrm>
        </p:grpSpPr>
        <p:pic>
          <p:nvPicPr>
            <p:cNvPr id="112" name="Right Arrow 1" descr=""/>
            <p:cNvPicPr/>
            <p:nvPr/>
          </p:nvPicPr>
          <p:blipFill>
            <a:blip r:embed="rId3"/>
            <a:stretch/>
          </p:blipFill>
          <p:spPr>
            <a:xfrm>
              <a:off x="3571920" y="1450800"/>
              <a:ext cx="18478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635280" y="1538280"/>
              <a:ext cx="16750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250920" y="2204640"/>
            <a:ext cx="8642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могу оглашавати лекови који се издају на рецеп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звољено прикупљање и изношење личних података одређеног лица или групе лица (дијагнозе, терапијски присту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звољено приказивање деце која узимају лек или медицинско сре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звољено износити тврдње или закључке о деловању лека који су предмет клиничког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звољено рекламирање лекова уз навођење назива апотеке, приватне праксе, специјализоване продавнице и назива правног лица које врши пр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ањено је давање бесплатних узорака лека, односно медицинских сред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ounded Rectangle 4"/>
          <p:cNvGrpSpPr/>
          <p:nvPr/>
        </p:nvGrpSpPr>
        <p:grpSpPr>
          <a:xfrm>
            <a:off x="1773360" y="1231920"/>
            <a:ext cx="2817720" cy="1060560"/>
            <a:chOff x="1773360" y="1231920"/>
            <a:chExt cx="2817720" cy="1060560"/>
          </a:xfrm>
        </p:grpSpPr>
        <p:pic>
          <p:nvPicPr>
            <p:cNvPr id="116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1773360" y="1231920"/>
              <a:ext cx="28177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881360" y="1314360"/>
              <a:ext cx="26082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ounded Rectangle 10"/>
          <p:cNvGrpSpPr/>
          <p:nvPr/>
        </p:nvGrpSpPr>
        <p:grpSpPr>
          <a:xfrm>
            <a:off x="1792440" y="5735520"/>
            <a:ext cx="3120840" cy="1019160"/>
            <a:chOff x="1792440" y="5735520"/>
            <a:chExt cx="3120840" cy="1019160"/>
          </a:xfrm>
        </p:grpSpPr>
        <p:pic>
          <p:nvPicPr>
            <p:cNvPr id="11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792440" y="5735520"/>
              <a:ext cx="3120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97200" y="5819760"/>
              <a:ext cx="291924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чна јавнос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Diagram 5" descr=""/>
          <p:cNvPicPr/>
          <p:nvPr/>
        </p:nvPicPr>
        <p:blipFill>
          <a:blip r:embed="rId3"/>
          <a:stretch/>
        </p:blipFill>
        <p:spPr>
          <a:xfrm>
            <a:off x="1878120" y="2389320"/>
            <a:ext cx="62420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Rounded Rectangle 4"/>
          <p:cNvGrpSpPr/>
          <p:nvPr/>
        </p:nvGrpSpPr>
        <p:grpSpPr>
          <a:xfrm>
            <a:off x="841320" y="1158840"/>
            <a:ext cx="2419560" cy="841320"/>
            <a:chOff x="841320" y="1158840"/>
            <a:chExt cx="2419560" cy="841320"/>
          </a:xfrm>
        </p:grpSpPr>
        <p:pic>
          <p:nvPicPr>
            <p:cNvPr id="12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841320" y="115884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34920" y="1231920"/>
              <a:ext cx="223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10"/>
          <p:cNvGrpSpPr/>
          <p:nvPr/>
        </p:nvGrpSpPr>
        <p:grpSpPr>
          <a:xfrm>
            <a:off x="5668920" y="1200240"/>
            <a:ext cx="2683080" cy="811080"/>
            <a:chOff x="5668920" y="1200240"/>
            <a:chExt cx="2683080" cy="811080"/>
          </a:xfrm>
        </p:grpSpPr>
        <p:pic>
          <p:nvPicPr>
            <p:cNvPr id="126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668920" y="1200240"/>
              <a:ext cx="2683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765760" y="1273320"/>
              <a:ext cx="2498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чн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ight Arrow 1"/>
          <p:cNvGrpSpPr/>
          <p:nvPr/>
        </p:nvGrpSpPr>
        <p:grpSpPr>
          <a:xfrm>
            <a:off x="3571920" y="1450800"/>
            <a:ext cx="1847880" cy="335160"/>
            <a:chOff x="3571920" y="1450800"/>
            <a:chExt cx="1847880" cy="335160"/>
          </a:xfrm>
        </p:grpSpPr>
        <p:pic>
          <p:nvPicPr>
            <p:cNvPr id="129" name="Right Arrow 1" descr=""/>
            <p:cNvPicPr/>
            <p:nvPr/>
          </p:nvPicPr>
          <p:blipFill>
            <a:blip r:embed="rId3"/>
            <a:stretch/>
          </p:blipFill>
          <p:spPr>
            <a:xfrm>
              <a:off x="3571920" y="1450800"/>
              <a:ext cx="18478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35280" y="1538280"/>
              <a:ext cx="16750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250920" y="2133720"/>
            <a:ext cx="86421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оглашавања је да стучна јавност стекне став о терапијском дејству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се оглашава мора имати дозволу за стављање у пр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намењен за оглашавање мора да има ознаку „само за стручну јавнос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исање се врши у складу са сажетком карактеристика лека и упутством за 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сме да врши промовисање лека стручној јав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и како током олашавања употребљавају речи „безбедно”</a:t>
            </a:r>
            <a:r>
              <a:rPr b="0" lang="en-US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ново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произвођач при оглашавању може поклањати лицима из стручне јав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ounded Rectangle 4"/>
          <p:cNvGrpSpPr/>
          <p:nvPr/>
        </p:nvGrpSpPr>
        <p:grpSpPr>
          <a:xfrm>
            <a:off x="841320" y="1158840"/>
            <a:ext cx="2419560" cy="841320"/>
            <a:chOff x="841320" y="1158840"/>
            <a:chExt cx="2419560" cy="841320"/>
          </a:xfrm>
        </p:grpSpPr>
        <p:pic>
          <p:nvPicPr>
            <p:cNvPr id="13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841320" y="115884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934920" y="1231920"/>
              <a:ext cx="223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лашивач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10"/>
          <p:cNvGrpSpPr/>
          <p:nvPr/>
        </p:nvGrpSpPr>
        <p:grpSpPr>
          <a:xfrm>
            <a:off x="5668920" y="1200240"/>
            <a:ext cx="2683080" cy="811080"/>
            <a:chOff x="5668920" y="1200240"/>
            <a:chExt cx="2683080" cy="811080"/>
          </a:xfrm>
        </p:grpSpPr>
        <p:pic>
          <p:nvPicPr>
            <p:cNvPr id="136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668920" y="1200240"/>
              <a:ext cx="2683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65760" y="1273320"/>
              <a:ext cx="2498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чн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ight Arrow 1"/>
          <p:cNvGrpSpPr/>
          <p:nvPr/>
        </p:nvGrpSpPr>
        <p:grpSpPr>
          <a:xfrm>
            <a:off x="3571920" y="1450800"/>
            <a:ext cx="1847880" cy="335160"/>
            <a:chOff x="3571920" y="1450800"/>
            <a:chExt cx="1847880" cy="335160"/>
          </a:xfrm>
        </p:grpSpPr>
        <p:pic>
          <p:nvPicPr>
            <p:cNvPr id="139" name="Right Arrow 1" descr=""/>
            <p:cNvPicPr/>
            <p:nvPr/>
          </p:nvPicPr>
          <p:blipFill>
            <a:blip r:embed="rId3"/>
            <a:stretch/>
          </p:blipFill>
          <p:spPr>
            <a:xfrm>
              <a:off x="3571920" y="1450800"/>
              <a:ext cx="18478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635280" y="1538280"/>
              <a:ext cx="16750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250920" y="2349000"/>
            <a:ext cx="857088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ом о начину оглашавања лека, односно медицинског средства регулисане су и друге обл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звољени поступци при промовисању лека (члан 29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на и нематеријална кор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латан узорак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исање медицинског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ја и спонзорисање стручних скуп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560" y="1773360"/>
            <a:ext cx="8569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пштења морају да буду тачна/истинита и не смеју да доведу здравствене раднике у заблу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се спроводи уз поштовање етичких критерију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з рационалну фармако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чки је оправдано да стручни скупови, семинари и састанци које организује произвођач лека буду више едукативни (научни и/или образовни), а мање промоти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у је забрањена свака врста директне и посредне рекламе, недолично оглашавање и јавно истицање појединих лекова, као и придобијање пациј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61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6560" y="198864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ија фармацеутских веш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: Милош Нико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кица Кочић-Пеш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ица Кост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нка Паројч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начину оглашавања лека, односно медицинског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„СЛ. гласник РС”, бр. 79/2010 и 102/2018 - др. правил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paragraf.rs/propisi/pravilnik_o_nacinu_oglasavanja_leka_odnosno_medicinskog_sredstv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у здравст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8000" y="2205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ачка орјентација друштва и значајан развој информационих технологија све више налазе своју примену у здрав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о здравство представља примену информационих и комуникационих технологија у систему здравствене заш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електронског здравства је побољшање приступа, ефикасности и квалитета здравствене услуге, односно побољшање здравственог стања пацијента и очување 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е информационе технологије у здравству су електронски здравствени записи, базе података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1557000"/>
            <a:ext cx="8686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примене информационих технологија у здравст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папиролог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значајне информације о пацијенту на једном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е и боље праћење здравственог стања и терапије пацијен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рљивост подата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341000"/>
            <a:ext cx="86868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о друштво данас пружа грађанима (пацијентима, потрошачима) знатно више података о болестима, лековима, лечењу и другим медицинским информ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фармацеутске компаније све више користе неограничене интернет могућности и креирају своје 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е где нуде информације о својим производима, али и информације о болестима (опције „питајте доктора”, „питајте фармацеута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е има и велики број апотека на којима се нуди и 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ција продаје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C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 и препа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34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електронски вид комуникације фармацеута са пацијентом може да замени комуникацију директног контакта у апотеци отвореног тип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данашњег оглашавања лекова је презентовање нових облика дозирања, нових доза већ регистрованих лекова, као и нових индикационих 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вако оглашавање лекова неетич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могу оглашавати, али на стручним медијима и на одговарајући, етички прихватљив на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773000"/>
            <a:ext cx="86421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лекова у нашој земљи регулисано је правил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НАЧИНУ ОГЛАШАВАЊА ЛЕКА, ОДНОСНО МЕДИЦИНСКОГ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„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. гласни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9/2010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/2018 -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paragraf.rs/propisi/pravilnik_o_nacinu_oglasavanja_leka_odnosno_medicinskog_sredstv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се састоји из три де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одред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лашавања лека, односно медицинског средства општој ја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а лека, односно медицинског средства стручној ја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лекова од стране произвођ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4"/>
          <p:cNvGrpSpPr/>
          <p:nvPr/>
        </p:nvGrpSpPr>
        <p:grpSpPr>
          <a:xfrm>
            <a:off x="2871720" y="2457360"/>
            <a:ext cx="3395880" cy="1060560"/>
            <a:chOff x="2871720" y="2457360"/>
            <a:chExt cx="3395880" cy="1060560"/>
          </a:xfrm>
        </p:grpSpPr>
        <p:pic>
          <p:nvPicPr>
            <p:cNvPr id="5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2871720" y="2457360"/>
              <a:ext cx="33958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79720" y="2538360"/>
              <a:ext cx="3184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ђа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Curved Left Arrow 7"/>
          <p:cNvSpPr/>
          <p:nvPr/>
        </p:nvSpPr>
        <p:spPr>
          <a:xfrm>
            <a:off x="6372360" y="3141720"/>
            <a:ext cx="950760" cy="2616120"/>
          </a:xfrm>
          <a:custGeom>
            <a:avLst/>
            <a:gdLst>
              <a:gd name="textAreaLeft" fmla="*/ 127080 w 950760"/>
              <a:gd name="textAreaRight" fmla="*/ 823680 w 950760"/>
              <a:gd name="textAreaTop" fmla="*/ 564840 h 2616120"/>
              <a:gd name="textAreaBottom" fmla="*/ 1932480 h 261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3547519"/>
                <a:lnTo>
                  <a:pt x="5400" y="21304"/>
                </a:lnTo>
                <a:lnTo>
                  <a:pt x="0" y="19638"/>
                </a:lnTo>
                <a:lnTo>
                  <a:pt x="5400" y="17379"/>
                </a:lnTo>
                <a:lnTo>
                  <a:pt x="5400" y="18360"/>
                </a:lnTo>
                <a:arcTo wR="21600" hR="9328" stAng="3547519" swAng="-3390546"/>
                <a:lnTo>
                  <a:pt x="21480" y="10310"/>
                </a:lnTo>
                <a:arcTo wR="21600" hR="9328" stAng="-156973" swAng="-5243027"/>
                <a:close/>
              </a:path>
              <a:path fill="darkenLess"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-156973"/>
                <a:lnTo>
                  <a:pt x="21480" y="10310"/>
                </a:lnTo>
                <a:arcTo wR="21600" hR="9328" stAng="-156973" swAng="-524302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rved Right Arrow 8"/>
          <p:cNvSpPr/>
          <p:nvPr/>
        </p:nvSpPr>
        <p:spPr>
          <a:xfrm>
            <a:off x="1979640" y="3141720"/>
            <a:ext cx="792000" cy="1150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3480 h 1150920"/>
              <a:gd name="textAreaBottom" fmla="*/ 8384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13" stAng="-5400000" swAng="-5400000"/>
                <a:lnTo>
                  <a:pt x="0" y="11730"/>
                </a:lnTo>
                <a:arcTo wR="21600" hR="8013" stAng="10800000" swAng="-3309611"/>
                <a:lnTo>
                  <a:pt x="16200" y="21346"/>
                </a:lnTo>
                <a:lnTo>
                  <a:pt x="21600" y="17884"/>
                </a:lnTo>
                <a:lnTo>
                  <a:pt x="16200" y="13913"/>
                </a:lnTo>
                <a:lnTo>
                  <a:pt x="16200" y="15771"/>
                </a:lnTo>
                <a:arcTo wR="21600" hR="8013" stAng="7490389" swAng="3006317"/>
                <a:lnTo>
                  <a:pt x="589" y="9871"/>
                </a:lnTo>
                <a:arcTo wR="21600" hR="8013" stAng="-10496707" swAng="5096707"/>
                <a:close/>
              </a:path>
              <a:path fill="darkenLess" w="21600" h="21600">
                <a:moveTo>
                  <a:pt x="21600" y="0"/>
                </a:moveTo>
                <a:arcTo wR="21600" hR="8013" stAng="-5400000" swAng="-5400000"/>
                <a:lnTo>
                  <a:pt x="0" y="8013"/>
                </a:lnTo>
                <a:arcTo wR="21600" hR="8013" stAng="10800000" swAng="-303293"/>
                <a:lnTo>
                  <a:pt x="589" y="9871"/>
                </a:lnTo>
                <a:arcTo wR="21600" hR="8013" stAng="-10496707" swAng="509670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Rounded Rectangle 9"/>
          <p:cNvGrpSpPr/>
          <p:nvPr/>
        </p:nvGrpSpPr>
        <p:grpSpPr>
          <a:xfrm>
            <a:off x="2889360" y="5267160"/>
            <a:ext cx="3395520" cy="1054440"/>
            <a:chOff x="2889360" y="5267160"/>
            <a:chExt cx="3395520" cy="1054440"/>
          </a:xfrm>
        </p:grpSpPr>
        <p:pic>
          <p:nvPicPr>
            <p:cNvPr id="5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2889360" y="5267160"/>
              <a:ext cx="339552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997360" y="5346720"/>
              <a:ext cx="31842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цијенти/потроша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10"/>
          <p:cNvGrpSpPr/>
          <p:nvPr/>
        </p:nvGrpSpPr>
        <p:grpSpPr>
          <a:xfrm>
            <a:off x="2871720" y="3809880"/>
            <a:ext cx="2638440" cy="1017720"/>
            <a:chOff x="2871720" y="3809880"/>
            <a:chExt cx="2638440" cy="1017720"/>
          </a:xfrm>
        </p:grpSpPr>
        <p:pic>
          <p:nvPicPr>
            <p:cNvPr id="6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871720" y="3809880"/>
              <a:ext cx="26384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978280" y="3889440"/>
              <a:ext cx="243180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чна јав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920" y="2276280"/>
            <a:ext cx="86421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медицинско средство подразумева лек за употребу у хуманој медицини и ветеринарски 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ивач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 носилац дозволе за лек, као и правно и физичко лице које врши промет лекова и медицинских средстава на велико и 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ом јавношћ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ју се грађани у Републици Срб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м јавношћ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ју се здравствени и ветеринарски радници који прописују лекове, односно медицинска средства, дипломирани фармацеути и друга стручна лица у области производње и промета лекова, односно медицинских средстава на велико и мало, као и у организацији обавезног здравственог осигур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лекова од стране произвођ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18T10:48:45Z</dcterms:modified>
  <cp:revision>246</cp:revision>
  <dc:subject/>
  <dc:title>Slide 1</dc:title>
</cp:coreProperties>
</file>